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71AD-3204-4797-BD61-B894C123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A1CF-ACD8-44A2-B262-F503C1DD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4A37-0462-4D54-A76F-9A7075D0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F62E-330D-4EDB-BB2F-480B480C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7AB1-2DF6-4006-AFA7-FEB6D6BB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30DD-43EA-4FEA-ACF5-F1FAC20D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8201-24AF-42AD-8FF6-DB30D3BA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B46F-862A-4A4A-8D2C-26EB6E17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5A25-9C4D-425C-8093-A93E615F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8759-BB98-4064-B304-AC0FA928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6FA3-635B-46FF-A27A-E2912595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A25B-8E44-46E9-8D2B-D2D9A4C8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BDFD-4A99-436C-9552-94D12BA4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A2A9-8B5B-474E-825F-442AF9B0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CE1C-3259-4FBC-9742-4E01B1E1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9A83-D4CB-45B0-BCB2-469A5569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304B-642D-4376-AB48-7C913A1B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D43E-C170-4167-A663-20675F15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1FFA-215A-4AB5-BAA7-428B8D22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66A8-FA89-482C-8035-46F5829A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2C75-1D9F-4B01-A603-D69FCFE9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7ACB-6C38-49F7-B6F6-0B710579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7345-0AEE-411F-966D-C4CD54D2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C973-772E-40E4-81E9-A6AF326B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F0EF-C68E-4679-878F-9026E9CFF2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86B7-64F6-49C7-B609-EEC39C61D0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34920" y="333360"/>
            <a:ext cx="21416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d9d9ff"/>
                </a:solidFill>
                <a:uFillTx/>
                <a:latin typeface="Comic Sans MS"/>
              </a:rPr>
              <a:t>Llinell rif</a:t>
            </a:r>
            <a:endParaRPr b="1" lang="en-US" sz="32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10920" y="1052280"/>
            <a:ext cx="8064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lwch chi roi’r rhifau o 1 i 7 yn y cylchoedd fel bo cyfanswm pob llinell yn 1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835280" y="2349360"/>
            <a:ext cx="5184360" cy="3953160"/>
            <a:chOff x="1835280" y="2349360"/>
            <a:chExt cx="5184360" cy="3953160"/>
          </a:xfrm>
        </p:grpSpPr>
        <p:sp>
          <p:nvSpPr>
            <p:cNvPr id="101" name=""/>
            <p:cNvSpPr/>
            <p:nvPr/>
          </p:nvSpPr>
          <p:spPr>
            <a:xfrm flipH="1">
              <a:off x="2320560" y="2958120"/>
              <a:ext cx="4049640" cy="2889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82920" y="2958120"/>
              <a:ext cx="3887640" cy="273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835280" y="2349360"/>
              <a:ext cx="5184360" cy="1215000"/>
              <a:chOff x="1835280" y="2349360"/>
              <a:chExt cx="5184360" cy="1215000"/>
            </a:xfrm>
          </p:grpSpPr>
          <p:sp>
            <p:nvSpPr>
              <p:cNvPr id="104" name=""/>
              <p:cNvSpPr/>
              <p:nvPr/>
            </p:nvSpPr>
            <p:spPr>
              <a:xfrm>
                <a:off x="2320920" y="3021120"/>
                <a:ext cx="405108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835280" y="2349360"/>
                <a:ext cx="1296720" cy="12150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79640" y="2349360"/>
                <a:ext cx="1295280" cy="1215000"/>
              </a:xfrm>
              <a:prstGeom prst="ellipse">
                <a:avLst/>
              </a:prstGeom>
              <a:solidFill>
                <a:srgbClr val="cc99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22920" y="2349360"/>
                <a:ext cx="1296720" cy="121500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779640" y="3718440"/>
              <a:ext cx="1296720" cy="121500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1835280" y="5087520"/>
              <a:ext cx="5184360" cy="1215000"/>
              <a:chOff x="1835280" y="5087520"/>
              <a:chExt cx="5184360" cy="1215000"/>
            </a:xfrm>
          </p:grpSpPr>
          <p:sp>
            <p:nvSpPr>
              <p:cNvPr id="110" name=""/>
              <p:cNvSpPr/>
              <p:nvPr/>
            </p:nvSpPr>
            <p:spPr>
              <a:xfrm>
                <a:off x="2320920" y="5759280"/>
                <a:ext cx="405108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835280" y="5087520"/>
                <a:ext cx="1296720" cy="1215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779640" y="5087520"/>
                <a:ext cx="1295280" cy="1215000"/>
              </a:xfrm>
              <a:prstGeom prst="ellipse">
                <a:avLst/>
              </a:prstGeom>
              <a:solidFill>
                <a:srgbClr val="ff66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22920" y="5087520"/>
                <a:ext cx="1296720" cy="1215000"/>
              </a:xfrm>
              <a:prstGeom prst="ellipse">
                <a:avLst/>
              </a:prstGeom>
              <a:solidFill>
                <a:srgbClr val="8000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9:39:13Z</dcterms:created>
  <dc:creator>Carwyn</dc:creator>
  <dc:description/>
  <dc:language>en-US</dc:language>
  <cp:lastModifiedBy>Carwyn</cp:lastModifiedBy>
  <dcterms:modified xsi:type="dcterms:W3CDTF">2008-12-07T19:42:42Z</dcterms:modified>
  <cp:revision>1</cp:revision>
  <dc:subject/>
  <dc:title>Llinell rif</dc:title>
</cp:coreProperties>
</file>